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9EB-3866-47D3-A7AF-6D459DD2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A15-815B-48ED-B03E-E7A12308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372-4999-4EEB-8479-CE305434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9A1-83F2-404A-9184-53FFA6D0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66E-FB04-410B-88E2-2F58192F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E57-DAD3-4E68-8C49-FF4C47E8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D0A-6DA8-4DDD-A30F-4160B6F6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985-6FF7-48E5-AB40-F41C91F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EA1-0FFF-457E-8866-16D8FF4F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921-FE42-4E93-A364-28E3F76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A39-7693-4A3A-89AD-A67A1C9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515-2D69-489B-8CBB-A6C5D974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C85-1298-4789-8ADE-FD97C95AC868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19Z</dcterms:modified>
  <cp:revision>2</cp:revision>
  <dc:subject>CNEE</dc:subject>
  <dc:title>CNEE</dc:title>
</cp:coreProperties>
</file>